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C6FC-C767-4666-A5FF-87C6ABA42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BFAC-E0ED-49C8-A582-519E97DE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EFBA-E114-4DA7-9B99-09F59000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9C98-08D7-41DA-9321-8278A0D89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1295-34F7-4240-9D3E-F77944B5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ACC6-13D1-41EB-8A89-7D231096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3AB8-2D91-437D-B2CF-3EA51B7E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D4BC-F00A-439A-9B51-EAE7D900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72E1-7F00-4C62-862E-50917143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A858-4B95-4D5D-BCA7-A728C7E2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260C-EC18-45ED-A4F3-829FCEBF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412D-2559-4F1D-BB18-352BE1A7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7A84-C0C6-4CA9-9989-39B1CE9ABA03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use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由檔案讀取方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alibri"/>
              </a:rPr>
              <a:t>準備流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. Edit the “Makefile”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IG_EFUSE_CONFIG_FILE=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編譯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前，請先編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k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NFIG_EFUSE_CONFIG_FILE=n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改成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=y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再做編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動作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. Prepare efuse MAP directory and fil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準備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預設讀取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fuse map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fer the FileEfuseExamp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. /system/etc/wifi/wifi_efuse.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efuse map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alsil RF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工程師為客戶量出預設值給客戶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p 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放進客戶系統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B. /data/wifimac.t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wlan mac addres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客戶系統執行亂數產生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或是由客戶申請合法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產生此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l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05:49:50Z</dcterms:created>
  <dc:creator>Willistang</dc:creator>
  <dc:description/>
  <dc:language>en-US</dc:language>
  <cp:lastModifiedBy>Willistang</cp:lastModifiedBy>
  <dcterms:modified xsi:type="dcterms:W3CDTF">2012-11-28T11:23:16Z</dcterms:modified>
  <cp:revision>12</cp:revision>
  <dc:subject/>
  <dc:title>PowerPoint 簡報</dc:title>
</cp:coreProperties>
</file>